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1A6-D535-42FB-B5EB-972E469B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463-08CC-4501-88D1-45076996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E1F-1DD3-4721-B920-CD534E3F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A0E-23C7-43B8-B074-42AEFB93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DA8-674D-4C05-9E81-0A5C6053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B28-AFE1-41C8-AB26-B952FE67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85E-B5C7-484E-9D90-067B3643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53C-3C3D-45E6-9D16-87C4D6C7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882-1C4B-4F96-AE09-149BEB65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849-A86A-452B-B6C9-59799CD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1F3-DB4E-41F9-BE42-5AEF799E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EFA-9E57-4099-9A03-AEBFC8A9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055D-B9F7-4275-B0AD-A9A39B2E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058800">
            <a:off x="1371600" y="5181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Ge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38862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4419720"/>
            <a:ext cx="1214280" cy="1214280"/>
          </a:xfrm>
          <a:prstGeom prst="diamond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442800">
            <a:off x="4190760" y="556236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Bright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4572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rt &amp;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133720"/>
            <a:ext cx="7162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Computer drawings inspired by the works of artist Paul Klee and his use of Geometry, Bright Colors and Primitive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0584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360" y="504720"/>
            <a:ext cx="912528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480" y="542880"/>
            <a:ext cx="907704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6160" y="619200"/>
            <a:ext cx="759168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360" y="447840"/>
            <a:ext cx="9125280" cy="59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360" y="447840"/>
            <a:ext cx="9125280" cy="59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480" y="514440"/>
            <a:ext cx="907704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62160" y="1319040"/>
            <a:ext cx="6619680" cy="42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480" y="738360"/>
            <a:ext cx="8915400" cy="53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852480"/>
            <a:ext cx="731520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480" y="738360"/>
            <a:ext cx="8915400" cy="53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9360" y="299880"/>
            <a:ext cx="9162720" cy="625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360" y="504720"/>
            <a:ext cx="912528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160" y="542880"/>
            <a:ext cx="906768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160" y="542880"/>
            <a:ext cx="906768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360" y="533520"/>
            <a:ext cx="912528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480" y="561960"/>
            <a:ext cx="891540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571680"/>
            <a:ext cx="89913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7:40:06Z</dcterms:created>
  <dc:creator>St. Jude School</dc:creator>
  <dc:description/>
  <dc:language>en-US</dc:language>
  <cp:lastModifiedBy>Patrick J. Mooney</cp:lastModifiedBy>
  <dcterms:modified xsi:type="dcterms:W3CDTF">2010-05-15T00:18:44Z</dcterms:modified>
  <cp:revision>10</cp:revision>
  <dc:subject/>
  <dc:title>Paul Klee</dc:title>
</cp:coreProperties>
</file>